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42E-97EE-4CB7-B35F-A155DBDA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5A4-DB9B-46A7-AD7F-48D4976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9A7-C953-43FC-BC5C-3AA3F4B5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AB1-C1F8-4026-853E-92F0307A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737B-F53C-41B1-9FDF-4E6A92D0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A10E-0592-4FC0-AE71-12B14442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2E8E-C09D-4752-8FED-941E2DFA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79D-BA3F-4230-AC3E-E92464B6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CA6F-025E-49BA-923D-533D4DE9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C48D-E90D-4590-8DD3-E263E583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BD26-3518-42E8-A0C5-332DE2CB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FC2-4D4B-4474-BCA9-A36A9310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80D5-08EF-43FD-9E79-F01CE12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5C17-ED32-41E0-8C55-CAC46912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843C-9271-4383-90A3-ACB4DB34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302E-2809-4621-8984-AB3B7AD4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4B49-AE65-4EEB-95AF-39FF1EC7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16A-302A-46A7-82DF-3C0B22C2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0B7-9542-423D-BE9B-41F478E3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A4F-0DEC-48C9-95A2-9FFBC062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751-5DC8-49D7-AE3A-626F47DF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7B9-43D2-4D31-B487-1647142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824-A1D8-4230-8772-70214E3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388-CFDC-4D2A-9E46-73F9E2F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902C-58FB-4EFB-BA2E-1AD23302A7FB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592E-6CCF-4964-BBD0-F5A9288DCE75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Lucida Handwriting"/>
              </a:rPr>
              <a:t>Lisa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0996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Friendly, nice, approachable, small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Daughter of Bronwyn and Melven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Who loves hockey, horses, birthdays and bbqs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Who feels exhausted after a big test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Who fears big spiders and fires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Who would someday like to have a horse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Brown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105520" y="169560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0:18:32Z</dcterms:created>
  <dc:creator>Tim Marriott</dc:creator>
  <dc:description/>
  <dc:language>en-US</dc:language>
  <cp:lastModifiedBy>Tim Marriott</cp:lastModifiedBy>
  <cp:lastPrinted>2009-02-11T19:33:55Z</cp:lastPrinted>
  <dcterms:modified xsi:type="dcterms:W3CDTF">2009-02-11T19:33:57Z</dcterms:modified>
  <cp:revision>4</cp:revision>
  <dc:subject/>
  <dc:title>Lisa</dc:title>
</cp:coreProperties>
</file>